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945C60-A303-4B9E-A8E1-058C61D06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7AE2C-8DB5-4F17-8C8C-EB3687693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B442B-B7EA-4779-894A-87302FF3F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89586-D920-468C-8D64-371FF7D30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0FF67D-FFA6-4A12-A755-210603724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BD4E7-7B89-4C75-8C94-0707E4137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87B08-3D12-401D-B25D-1656A361A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67D54-E80F-45B5-BEF3-0AA752EA11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054623-F07C-4A00-8628-11B55C7BF8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275A93-4BB4-42D4-92BF-50323EB93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51601-0460-4919-9169-816C31E1B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F2FAC-4EF0-4D06-9DDD-98ACEC3C0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AB632-1AC1-4328-B2B8-040497FA8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58A3F-0E47-4623-BF94-D09F8D5BD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5DD4D-340B-44D2-9A3D-B21793D6E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394CB-BA55-4B0D-BF94-2B132D2A1D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FF3D6E-CA6E-4243-A603-50CBD623CB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C4CBA-087C-43BF-890D-F3102C671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2CB8-C8CF-49C4-899A-4D99CE8DB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24F3B-3AEB-470B-A023-9D9461B5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8AD7E-5981-49A3-B794-BAA0FBA82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CFD9C-F717-42A8-A9BA-8ECD7942B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36CE5-8759-44F5-A089-5414C048C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3C3F-4014-424E-A398-3BB1A2CAD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54CD-0330-42E7-8318-7F6CEB6256C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98A3-41EB-407F-90AC-028A85F9309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240" y="1143000"/>
            <a:ext cx="89154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0033"/>
                </a:solidFill>
                <a:latin typeface="Bradley Hand ITC"/>
              </a:rPr>
              <a:t>Natural Resources</a:t>
            </a:r>
            <a:r>
              <a:rPr b="0" lang="en-US" sz="4800" spc="-1" strike="noStrike">
                <a:solidFill>
                  <a:srgbClr val="330033"/>
                </a:solidFill>
                <a:latin typeface="Times New Roman"/>
              </a:rPr>
              <a:t> </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al Science</a:t>
            </a:r>
            <a:endParaRPr b="0" lang="en-US" sz="4400" spc="-1" strike="noStrike">
              <a:solidFill>
                <a:srgbClr val="000000"/>
              </a:solidFill>
              <a:latin typeface="Arial"/>
            </a:endParaRPr>
          </a:p>
        </p:txBody>
      </p:sp>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ustainability- what is it?!</a:t>
            </a:r>
            <a:endParaRPr b="0" lang="en-US" sz="4200" spc="-1" strike="noStrike">
              <a:solidFill>
                <a:srgbClr val="330033"/>
              </a:solidFill>
              <a:latin typeface="Times New Roman"/>
            </a:endParaRPr>
          </a:p>
        </p:txBody>
      </p:sp>
      <p:sp>
        <p:nvSpPr>
          <p:cNvPr id="100" name=""/>
          <p:cNvSpPr txBox="1"/>
          <p:nvPr/>
        </p:nvSpPr>
        <p:spPr>
          <a:xfrm>
            <a:off x="838080" y="1523880"/>
            <a:ext cx="7772400" cy="453096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t>
            </a:r>
            <a:r>
              <a:rPr b="0" lang="en-US" sz="3600" spc="-1" strike="noStrike">
                <a:solidFill>
                  <a:srgbClr val="000000"/>
                </a:solidFill>
                <a:latin typeface="Arial"/>
              </a:rPr>
              <a:t>meeting the needs of the present without compromising the ability of future generations to meet their own need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pa.g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graphicFrame>
        <p:nvGraphicFramePr>
          <p:cNvPr id="102" name=""/>
          <p:cNvGraphicFramePr/>
          <p:nvPr/>
        </p:nvGraphicFramePr>
        <p:xfrm>
          <a:off x="914400" y="0"/>
          <a:ext cx="8077320" cy="6713640"/>
        </p:xfrm>
        <a:graphic>
          <a:graphicData uri="http://schemas.openxmlformats.org/drawingml/2006/table">
            <a:tbl>
              <a:tblPr/>
              <a:tblGrid>
                <a:gridCol w="2590920"/>
                <a:gridCol w="54864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Resource</a:t>
                      </a:r>
                      <a:endParaRPr b="0" lang="en-US" sz="18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e1"/>
                          </a:solidFill>
                          <a:latin typeface="Arial"/>
                        </a:rPr>
                        <a:t>How are our resources used?</a:t>
                      </a:r>
                      <a:endParaRPr b="0" lang="en-US" sz="18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r>
              <a:tr h="107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ite</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in oil drilling to weigh down the oil and prevent gushers (high specific gravity), filler in paint, glass, toothpaste.</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r>
              <a:tr h="1072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rt</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make stone tools. (hardness, fracture patterns). Used as fill to provide a stable base for roads (insolubility)</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82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y</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make pottery and bricks. Used for pet litter (ability to absorb water)</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r h="156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lcopyrite (</a:t>
                      </a:r>
                      <a:r>
                        <a:rPr b="1" lang="en-US" sz="1600" spc="-1" strike="noStrike">
                          <a:solidFill>
                            <a:srgbClr val="000000"/>
                          </a:solidFill>
                          <a:latin typeface="Arial"/>
                        </a:rPr>
                        <a:t>copper</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pper is used to make electrical wiring (electrical conductivity). Used in alloys - bronze and brass (low melting point, beauty, resistance to oxidation) Used as an ingredient in pigments (blue and green) </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181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al</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as a fuel (flammable). The oils and tars produced processing coal are processed into a variety of organic solvents and compounds such as plastics, motor fuel, photo developer, perfume, medicine, and sugar substitute.</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graphicFrame>
        <p:nvGraphicFramePr>
          <p:cNvPr id="104" name=""/>
          <p:cNvGraphicFramePr/>
          <p:nvPr/>
        </p:nvGraphicFramePr>
        <p:xfrm>
          <a:off x="914400" y="0"/>
          <a:ext cx="7772400" cy="6858000"/>
        </p:xfrm>
        <a:graphic>
          <a:graphicData uri="http://schemas.openxmlformats.org/drawingml/2006/table">
            <a:tbl>
              <a:tblPr/>
              <a:tblGrid>
                <a:gridCol w="2514600"/>
                <a:gridCol w="5257800"/>
              </a:tblGrid>
              <a:tr h="40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Resource</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How are our resources used?</a:t>
                      </a:r>
                      <a:endParaRPr b="0" lang="en-US" sz="1600" spc="-1" strike="noStrike">
                        <a:solidFill>
                          <a:srgbClr val="000000"/>
                        </a:solidFill>
                        <a:latin typeface="Arial"/>
                      </a:endParaRPr>
                    </a:p>
                  </a:txBody>
                  <a:tcPr anchor="t" marL="90000" marR="9000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r>
              <a:tr h="198900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lena (</a:t>
                      </a:r>
                      <a:r>
                        <a:rPr b="1" lang="en-US" sz="1600" spc="-1" strike="noStrike">
                          <a:solidFill>
                            <a:srgbClr val="000000"/>
                          </a:solidFill>
                          <a:latin typeface="Arial"/>
                        </a:rPr>
                        <a:t>lead</a:t>
                      </a: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rgest use of lead is in automotive batteries. It is also used as weights (high specific gravity). Used as an ingredient in solder (soft, low melting point.). Until recently it was also used as an ingredient in paint and as an additive in gasoline to make engines run more smoothly.</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r>
              <a:tr h="91296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ypsum</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ypsum is primarily used to make wallboard. It is also an ingredient in cement.</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145080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menite (</a:t>
                      </a:r>
                      <a:r>
                        <a:rPr b="1" lang="en-US" sz="1600" spc="-1" strike="noStrike">
                          <a:solidFill>
                            <a:srgbClr val="000000"/>
                          </a:solidFill>
                          <a:latin typeface="Arial"/>
                        </a:rPr>
                        <a:t>titanium</a:t>
                      </a: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tanium is used in alloys to make strong light-weight materials - space ships, bicycles Used to make white paint - non-toxic replacement for lead, which used to be used for this purpose. (low reactivity)</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r h="91296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ron </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on is used for tools, for appliances, for building supports. It is also used as a pigment (red and ochr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118260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eston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estone is used as building stone, for ornamental stone for surfaces and sculpture, to make cement and mortar, as crushed stone for fill</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graphicFrame>
        <p:nvGraphicFramePr>
          <p:cNvPr id="106" name=""/>
          <p:cNvGraphicFramePr/>
          <p:nvPr/>
        </p:nvGraphicFramePr>
        <p:xfrm>
          <a:off x="990720" y="0"/>
          <a:ext cx="7924680" cy="5931000"/>
        </p:xfrm>
        <a:graphic>
          <a:graphicData uri="http://schemas.openxmlformats.org/drawingml/2006/table">
            <a:tbl>
              <a:tblPr/>
              <a:tblGrid>
                <a:gridCol w="2438280"/>
                <a:gridCol w="5486400"/>
              </a:tblGrid>
              <a:tr h="37152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Resourc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e1"/>
                          </a:solidFill>
                          <a:latin typeface="Arial"/>
                        </a:rPr>
                        <a:t>How are our resources used?</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18720">
                      <a:solidFill>
                        <a:srgbClr val="ffffe1"/>
                      </a:solidFill>
                    </a:lnB>
                    <a:solidFill>
                      <a:srgbClr val="cccc99"/>
                    </a:solidFill>
                  </a:tcPr>
                </a:tc>
              </a:tr>
              <a:tr h="106992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sel Shells</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18720">
                      <a:solidFill>
                        <a:srgbClr val="ffffe1"/>
                      </a:solidFill>
                    </a:lnB>
                    <a:solidFill>
                      <a:srgbClr val="fbfbfb"/>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sel shells were used as ceremonial objects. European Americans ha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d shells as ornaments - buttons and pearls for jewelry.</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18720">
                      <a:solidFill>
                        <a:srgbClr val="ffffe1"/>
                      </a:solidFill>
                    </a:lnB>
                    <a:solidFill>
                      <a:srgbClr val="fbfbfb"/>
                    </a:solidFill>
                  </a:tcPr>
                </a:tc>
              </a:tr>
              <a:tr h="82692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il/Natural Gas</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il and natural gas are used as fuels and ingredients in the chemical industry to produce petroleum based products notably plastics.</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18720">
                      <a:solidFill>
                        <a:srgbClr val="ffffe1"/>
                      </a:solidFill>
                    </a:lnT>
                    <a:lnB w="5760">
                      <a:solidFill>
                        <a:srgbClr val="ffffe1"/>
                      </a:solidFill>
                    </a:lnB>
                    <a:solidFill>
                      <a:srgbClr val="ececde"/>
                    </a:solidFill>
                  </a:tcPr>
                </a:tc>
              </a:tr>
              <a:tr h="82728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osphat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osphate is used as a fertilizer and to make phosphoric acid which is a major ingredient in food products such as soda.</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106992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ltpeter</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ltpeter was used as a fertilizer (source of nitrogen) and as an ingredient in gunpowder. It has now been replaced by the related compound ammonium nitrate which can be manufactured in the laboratory.</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r h="58428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d &amp; Gravel</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 and gravel are used as fill to provide a stable foundation for buildings and roads.</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r h="35568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dston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ndstone is used as a building material.</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ececde"/>
                    </a:solidFill>
                  </a:tcPr>
                </a:tc>
              </a:tr>
              <a:tr h="825480">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halerite (</a:t>
                      </a:r>
                      <a:r>
                        <a:rPr b="1" lang="en-US" sz="1600" spc="-1" strike="noStrike">
                          <a:solidFill>
                            <a:srgbClr val="000000"/>
                          </a:solidFill>
                          <a:latin typeface="Arial"/>
                        </a:rPr>
                        <a:t>zinc</a:t>
                      </a:r>
                      <a:r>
                        <a:rPr b="0" lang="en-US" sz="1600" spc="-1" strike="noStrike">
                          <a:solidFill>
                            <a:srgbClr val="000000"/>
                          </a:solidFill>
                          <a:latin typeface="Arial"/>
                        </a:rPr>
                        <a:t>)</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c>
                  <a:txBody>
                    <a:bodyPr lIns="47520" rIns="4752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inc is used as an ingredient in brass (w/copper). It is used to coat (galvanize) iron implements to protect them from rusting. It is used as a pigment (white)</a:t>
                      </a:r>
                      <a:endParaRPr b="0" lang="en-US" sz="1600" spc="-1" strike="noStrike">
                        <a:solidFill>
                          <a:srgbClr val="000000"/>
                        </a:solidFill>
                        <a:latin typeface="Arial"/>
                      </a:endParaRPr>
                    </a:p>
                  </a:txBody>
                  <a:tcPr anchor="ctr" marL="47520" marR="47520">
                    <a:lnL w="5760">
                      <a:solidFill>
                        <a:srgbClr val="ffffe1"/>
                      </a:solidFill>
                    </a:lnL>
                    <a:lnR w="5760">
                      <a:solidFill>
                        <a:srgbClr val="ffffe1"/>
                      </a:solidFill>
                    </a:lnR>
                    <a:lnT w="5760">
                      <a:solidFill>
                        <a:srgbClr val="ffffe1"/>
                      </a:solidFill>
                    </a:lnT>
                    <a:lnB w="5760">
                      <a:solidFill>
                        <a:srgbClr val="ffffe1"/>
                      </a:solidFill>
                    </a:lnB>
                    <a:solidFill>
                      <a:srgbClr val="f6f6e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0:16:58Z</dcterms:created>
  <dc:creator>Brad Richards</dc:creator>
  <dc:description/>
  <dc:language>en-US</dc:language>
  <cp:lastModifiedBy>User</cp:lastModifiedBy>
  <dcterms:modified xsi:type="dcterms:W3CDTF">2009-10-22T16:01:36Z</dcterms:modified>
  <cp:revision>66</cp:revision>
  <dc:subject/>
  <dc:title>Natural Resources</dc:title>
</cp:coreProperties>
</file>